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7610-FC8B-485D-A228-1BA974324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A465-1E0D-4846-9C63-BE44AD9D7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15CA-E261-4908-B0DC-728976740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DAB4-610D-49A9-82DC-05F9EB179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ECE77-070E-4F1C-BDA9-64243BF96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95CDD-48BF-4CCD-8ED1-2E4272691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D6473-FF1A-47D7-9377-7D6A8E9BE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39613-21D7-4F33-871B-A6F4C4529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CB69A-F957-4418-92B3-42195E2F2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FFDF0-20F0-4C24-84E4-167A9A903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B22C0-E890-4802-8C85-C042F46B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FDDE-F18F-4BD9-BC2E-C443CD9BE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0307D-8985-4B31-9630-12501559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72EF2-D8CA-41BB-BCB2-070D657C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F5534-9FF0-46E1-95FC-4697F5854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CEE5F-EE40-4BAC-84F7-277639C15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9D267-1437-4C61-A008-94C783A5F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52B92-6D93-4902-9009-16D0C05E8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279AA-D4E2-4FDE-BBF9-D385A639B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0E182-2EA7-4FF1-B90D-A9444D78B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1E3BA-D6B7-4C24-830F-A00AD8200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12F0B-CDCE-4396-86C7-6A79F1F24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FC55-5214-47AE-9831-6951E2C29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3B60C-1D04-4A6C-A9D7-7F32F9A98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37488-15EE-4A06-B488-FEA30378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36B6C-7622-43F8-A4F9-62A0FD92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9CDC2-7C5C-49B4-A871-6420D4C2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AF9C5-49FB-4C8B-AB74-38AD5928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13C55-F698-4C24-9F62-15453F408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0C7D0-EFC5-4BF0-8EBD-155B7D962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61C72-696D-4F70-AD0F-CD3DA3454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44C59-1EF5-4749-BB01-D6DAB0A24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D21E5-51D3-4D47-88C6-AAD9CF64D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FC5B-6913-44C1-8031-5A0B25423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812ED-7EE3-4450-AFF6-EFC1E47BF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27345-8A2C-4482-874C-E14DB9F2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F3081-6D51-419C-9014-CBBABB990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E99BE-12C1-4994-A073-293DA0C6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D9BDF-057F-4A0A-9DF9-09E4CB1B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404CA-17A9-4837-A718-74C63031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325C4-85D6-4F88-B8E9-1D1B01A28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1DE66-6A14-4741-A13E-9E0AA7907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1F131-71D9-4ECF-9291-2C2F31BFA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D4ED7-5F79-43DD-9FEC-F69BC2A8F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76D9-D6C0-40F5-A19B-B95D884E4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14F50-6ECB-4826-A464-D4FCA8997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78AFE-71F6-4DA5-A67A-DB1E7297B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DA093-7D86-4E9D-B69C-01E4DD5E8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1367E-273E-4C4E-841D-566493201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33D42-3506-43DE-8BAF-45D40EB20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FD6FA-9D95-4B21-9264-2C232E91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47CF2-BB9B-437B-BE8B-95762331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678F2-7434-4149-9157-0A090B97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5D2E8-965B-46E8-9E47-CCDFFD490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F68C4-4C47-431F-82F2-8827F8D64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D099-3620-476E-8CD7-70EBD5D00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A0980-4C2C-439F-BF62-48FADC1D4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79641-8648-4541-B836-C6E8B29BC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E9AF2-60D0-4644-9628-33D941D02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97C4B5-25A8-421F-9868-3B61CA083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C8462-A034-4250-9085-9E829DA04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039B32-EA68-400A-B20A-CDA9396A5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673B7-8FD8-485E-B358-0255A455F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2A6915-851B-4339-9826-2F77E40B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5B6AF-5256-47FC-96C8-CF004119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3C031-0ECB-4504-84B0-8AE0A0CA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AC7A-6A96-4ABE-BDC7-98FBA14B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F7A97-5C81-41CF-B80C-56F69E5AD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E69A3-373B-4D66-A442-EF9B0C0B9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DFE9C-7757-4AC9-B9D5-C208E7040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32704-0DE6-487F-852A-82FE0AA4F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A9568-439A-417F-A107-54FC2781A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74D0EB-EE20-4A26-B71A-7388D4F30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9C707-EF38-4804-8264-D9579348F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32A92-953D-4967-B34E-45C72163F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278CE-2296-4959-815E-7DCED8ECE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26C5B-F6B9-4DD0-B1A8-524500C4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B0F0-C88A-419F-A27F-AA036024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81952-BA9C-450D-AD96-C3C94E62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47CA82-39D8-465E-A508-AC0F09E7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E5D03-68C9-4A6A-AF81-9C13996DF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2E9CAC-99D3-4F0C-9744-1A57A2E8F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63E35-445D-42E3-A164-B277D1AA4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C50DCE-924F-4083-9CD7-056A4365C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33D23-F44F-4AED-8070-BC92506B3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03025D-C295-4D93-B809-97F714BB0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563F41-CC18-4A53-A48C-AA2A7297F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BAC6C2-D7FE-4B0A-9387-A23BD1297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71F3-AAA2-47BC-B76C-64BFDC76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2737C5-C5E1-473D-A11E-654208667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77315E-831D-4A5E-8957-6C696B3D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D30210-42D8-4CE9-9EA0-F3BF96D7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FBF4DE-884D-4AFE-8483-BABD183A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1C6FC8-1F94-4533-93C9-77E1299E7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CDB28B-EB82-4BEF-8691-84623767D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48F44C-3E37-4B7D-BF71-6480C5022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EB774-FE82-4784-A14C-34E10E88A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B0662-A2CF-42B3-B5A9-F4C3933CBD0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D6386-1848-4661-BCE8-293DF8950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Straight Connector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Straight Connector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B9D5F-26EA-4823-BDC3-D1324D00AE6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92606-57F6-422B-BFE8-E18931F58E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88B99-2814-4F1A-8C58-DF9E6666B0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88C7A-AACE-4F56-B1C1-979F9601A601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30401-CAAA-4E5A-BA72-F03E9E578001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itle 3" descr=""/>
          <p:cNvPicPr/>
          <p:nvPr/>
        </p:nvPicPr>
        <p:blipFill>
          <a:blip r:embed="rId1"/>
          <a:stretch/>
        </p:blipFill>
        <p:spPr>
          <a:xfrm>
            <a:off x="450720" y="-146160"/>
            <a:ext cx="8242560" cy="121932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 txBox="1"/>
          <p:nvPr/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Sam arrived at the Shoprite store at 4:00 in the afternoon.  He shopped for 2 hours buying school supplies.  Pencils were 15 cents each and erasers were 10 cents each.  A pad of paper was 39 cents.  He saw a box of 4 pens on sale for 46 cents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Title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609480" y="1295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at time did Sam finish shopping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Title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456840" y="11430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f Sam bought 3 erasers for each of his 3 younger brothers, how much money did he spend on erasers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Title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If Sam bought 2 pencils, 1 eraser and a pad of paper, how much money did he spend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Title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457200" y="10663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f Sam bought 28 pencils, how much would he have after he gave 7 pencils to his brother and 6 pencils to his sister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Title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How much more would Sam pay for 5 pencils than 5 erasers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2T21:49:10Z</dcterms:created>
  <dc:creator>127partidak</dc:creator>
  <dc:description/>
  <dc:language>en-US</dc:language>
  <cp:lastModifiedBy>127partidak</cp:lastModifiedBy>
  <dcterms:modified xsi:type="dcterms:W3CDTF">2012-01-02T21:54:10Z</dcterms:modified>
  <cp:revision>1</cp:revision>
  <dc:subject/>
  <dc:title>Information</dc:title>
</cp:coreProperties>
</file>